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5587-1D5E-450F-BEF6-A6768001E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56C9-3499-4E03-ACDE-FC5787982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90000"/>
              </a:lnSpc>
              <a:spcBef>
                <a:spcPts val="1349"/>
              </a:spcBef>
              <a:buClr>
                <a:srgbClr val="00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ebbie Chappell – Te Kuiti, Taumaranui Catherine Callagher – Hamilton West of the river, Eileen Gibbons – Tokoroa, Karyn Haeta – North Hamilton, Ngaruawhahia; Simona Inkrot – Thames/ Coromandel &amp; Hauraki, Julie Jay – Hamilton East of the river incl. Matamata, Te Ar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ENTION ANGEL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0A9E-A5CA-482E-BBE6-D2417CDF1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F24E-CF3D-4DCA-BDCD-D3B2BA7A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280" y="33526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80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100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3008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28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100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3008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180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2280" y="33526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180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100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30080" y="6858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228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4100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30080" y="33526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800" y="33526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36080"/>
            <a:ext cx="8839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6858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33526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1080" y="151920"/>
            <a:ext cx="693432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The Waikato Integrated Heart Failure Service (WIHF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81080" y="3580920"/>
            <a:ext cx="69343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ebbie Chapp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NS Heart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aumarunui/Te Kuiti/Otorohanga/Te Awamu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Investig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981000"/>
            <a:ext cx="88394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bservations – TPR BP (lying/standing), weight, height BMI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CG – old and new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loods – CBC, U&amp;E, Cardiac enzymes, NT-pro BNP, LF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holesterol, T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XRay – old and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CHO- normal EF &gt;55%,  moderate – severe HF&lt;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Treatment Options – medical vs interv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3774960" cy="336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Pharmacological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 Diur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AC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Beta-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4440" y="1125000"/>
            <a:ext cx="4337280" cy="46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Non pharmac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flui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physical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sm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psychosoci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other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6858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75 year old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istory incr SOBOE  (getting wo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ilateral pitting oed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JVP +2, chest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istory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ip stick, LFT, U&amp;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T pro BNP 400 pg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fer - ECHO normal LV, elevated filling pressures, HFp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reatment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7960" y="6858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49 year old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ilateral oedema, pants t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ppetite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JVP normal, ascites, ? pulsatile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Jaundi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ip stick (bilirub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FT - ab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T pro BNP –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nal –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heck ? Hepatitis, alcohol, blood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9246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Aims of treatment / nursing role</a:t>
            </a: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981000"/>
            <a:ext cx="88394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prove symptoms – fluid restrict, daily weigh, me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prove LV function – medication, medical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prove exercise tolerance – moving, pacing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prove patient education &amp; self-management – HF book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crease hospital admissions - improve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nd of lif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CNS led interventions for HF pati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685440"/>
            <a:ext cx="85964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creased hospitalisation, decreased number of events, readmissions and days in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proved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st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proved self-care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hteck 6"/>
          <p:cNvSpPr/>
          <p:nvPr/>
        </p:nvSpPr>
        <p:spPr>
          <a:xfrm>
            <a:off x="5292720" y="5661000"/>
            <a:ext cx="385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Stromberg et al., 2003; Phillips et al.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Referral Criter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In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Patients with possible heart failure and/or at high risk for heart failure in the community, e.g. previous MI, family history of cardiomyopat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Patients readmitted for heart failure within 3 month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Heart failure patients with significant co-morbidities affecting optimisation of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hared care” for end stage/palliative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 u="sng">
                <a:solidFill>
                  <a:srgbClr val="000000"/>
                </a:solidFill>
                <a:uFillTx/>
                <a:latin typeface="Arial"/>
              </a:rPr>
              <a:t>Ex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Lack of consent from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cute coronary syndr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Patients already under the care of a cardiologist, unless referred by this cardiologist (inclusion criteria must be satisf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</a:rPr>
              <a:t>COMPONENTS OF WIH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pecialist clinics (CNS and cardiologists), Home visits, Telephone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Patient and family/whanau education: heart failure knowledge and self-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Clinical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itration of heart failure medications in consultation with GP and/or cardi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Professional education/CME for other health professionals and community t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960" y="1371600"/>
            <a:ext cx="42670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960" y="4191120"/>
            <a:ext cx="426708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788000" y="1916280"/>
            <a:ext cx="4105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ebbie Chappell – Taumarunui                   Te Kuiti/Otorohanga/Te Awamu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02124194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07 8785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The Waikato Integrated Heart Failure Service 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95280" y="887400"/>
            <a:ext cx="8353440" cy="58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75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HF CN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75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75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75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75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75"/>
              </a:spcBef>
              <a:buClr>
                <a:srgbClr val="00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Julie Jay, Eileen Gibbons, Karyn Haeata,Debbie Chappell, Simona Inkrot, Catherine Callagh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75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ardiologis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2475"/>
              </a:spcBef>
              <a:buClr>
                <a:srgbClr val="00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Mark Davis, Gerry Devlin, Raewyn Fis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475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Sonograp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75"/>
              </a:spcBef>
              <a:buClr>
                <a:srgbClr val="00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eart Failure Clinical Nurse Specialists_22May2013_0006m"/>
          <p:cNvPicPr/>
          <p:nvPr/>
        </p:nvPicPr>
        <p:blipFill>
          <a:blip r:embed="rId1"/>
          <a:stretch/>
        </p:blipFill>
        <p:spPr>
          <a:xfrm>
            <a:off x="2700360" y="981000"/>
            <a:ext cx="40575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HF in Aotearoa/N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63680" y="1122480"/>
            <a:ext cx="86803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01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 % Heart Failur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revalenc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n Western socie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01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HF Incidenc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s rising with an ageing population and the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proved treatment and survival of heart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01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dian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urvival of 3.5 year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fter initial HF admission in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01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e-year HF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ortality rate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fter initial hospital admission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re between 25 and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01"/>
              </a:spcBef>
              <a:buClr>
                <a:srgbClr val="0066cc"/>
              </a:buClr>
              <a:buSzPct val="11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o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tients admitted with HF are significantly young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n NZ European:  mean age 62 vs. 7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6"/>
          <p:cNvSpPr/>
          <p:nvPr/>
        </p:nvSpPr>
        <p:spPr>
          <a:xfrm>
            <a:off x="1692360" y="5661000"/>
            <a:ext cx="7451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McMurray et al., 2012; Wasywich et al, 2010; Schaufelberger et al., 2004; Wall et al.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Refresher A&amp;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600px-Diagram_of_the_human_heart_%28cropped%29"/>
          <p:cNvPicPr/>
          <p:nvPr/>
        </p:nvPicPr>
        <p:blipFill>
          <a:blip r:embed="rId1"/>
          <a:stretch/>
        </p:blipFill>
        <p:spPr>
          <a:xfrm>
            <a:off x="2141640" y="685800"/>
            <a:ext cx="4860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765000"/>
            <a:ext cx="741672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art Failure is a clinical syndrome where the heart is unable to pump blood at a rate required by the body, patients present with some or all of the following fea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ymptoms typical of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(breathlessness at rest or on exercise, fatigue, tiredness, ankle swelling)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igns typical of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(tachycardia, tachypnoea, pulmonary rales, pleural effusion, raised jugular venous pressure, peripheral oedema, hepatomega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Objective evidence of structural or functional abnormality of the heart at 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(cardiomegaly, third heart sound, cardiac murmurs, abnormality on the echocardiogram, raised natriuetic peptide concen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MMHE_03_025_01_eps"/>
          <p:cNvPicPr/>
          <p:nvPr/>
        </p:nvPicPr>
        <p:blipFill>
          <a:blip r:embed="rId1"/>
          <a:stretch/>
        </p:blipFill>
        <p:spPr>
          <a:xfrm>
            <a:off x="1258920" y="981000"/>
            <a:ext cx="6553080" cy="5011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NZ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 HF-REF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       HF-P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Some causes of heart fail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Valvular heart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ardiomyopat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ndocrine disorders-thyrotoxic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enet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ngenital heart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flamm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hronic arrhythm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so think of co morbidities – diabetes, obesity, CO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Pathophysi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ensatory mechanisms of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cute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ympathetic nervous system acti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nin-angiotensin system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V re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OUTCO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Vasoconstriction – Increased HR, SV leads to increased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ttempt to maintain cardiac output and vital organ perfusion – heart, brain,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Maladap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mpensatory mechanisms become “maladaptive” in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chronic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OUT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xcessive vasocon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ncreased aft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xcessive salt and water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lectrolyte abnorm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rrhythm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3:12:30Z</dcterms:created>
  <dc:creator>Visual Communications</dc:creator>
  <dc:description/>
  <dc:language>en-US</dc:language>
  <cp:lastModifiedBy>Waikato District Health Board</cp:lastModifiedBy>
  <dcterms:modified xsi:type="dcterms:W3CDTF">2014-05-29T23:18:00Z</dcterms:modified>
  <cp:revision>32</cp:revision>
  <dc:subject/>
  <dc:title>PowerPoint Presentation</dc:title>
</cp:coreProperties>
</file>